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66895"/>
        <c:axId val="37983192"/>
      </c:barChart>
      <c:catAx>
        <c:axId val="47966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83192"/>
        <c:crosses val="autoZero"/>
        <c:auto val="1"/>
        <c:lblAlgn val="ctr"/>
        <c:lblOffset val="100"/>
        <c:noMultiLvlLbl val="0"/>
      </c:catAx>
      <c:valAx>
        <c:axId val="37983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66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B8A-BBA0-4968-8988-E5D7D7AE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645-B513-4D5A-8EE6-0F2AEE7E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FE9-1C25-428C-B057-5E7E914D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1EF-85DD-4D54-BE5F-48490D88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5BF-05C0-44BF-BFD2-061B5954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6EA-5B7C-4BCC-96C3-37363A43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F8E-A028-4D44-BB24-F1715F9A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90C-06DF-47C0-AF59-60B5BC81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146-3C31-4744-9497-22330C19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A1A-8F3E-4CA1-8ECE-DFE817AF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BE2-D77C-49CA-95D2-9E2FFFE6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502-1257-42DC-8963-8DE93469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53E98-6C3F-4E43-BD53-3D3792E733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