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54908"/>
        <c:axId val="77129056"/>
      </c:barChart>
      <c:catAx>
        <c:axId val="50254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29056"/>
        <c:crosses val="autoZero"/>
        <c:auto val="1"/>
        <c:lblAlgn val="ctr"/>
        <c:lblOffset val="100"/>
        <c:noMultiLvlLbl val="0"/>
      </c:catAx>
      <c:valAx>
        <c:axId val="77129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54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36E-F09A-498B-8F40-4F7AA26D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AB5-9AB9-4329-AB5C-63FC2277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4A7-CF24-48E9-ADAC-FFFA74B7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DAA-4AC6-4B17-95A0-B6A2A29C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CBC-8110-4530-BE79-561286D1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D5B-7844-4D70-8093-54ECBFDE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9E6-0ACE-4052-967E-B933DC9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C2C-7508-4650-BEB7-5CB7479E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72E-AE71-4E33-AC9F-FACDB2D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2A7-826C-4DBA-8146-6E5DF04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831-11D9-4051-8928-4895446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F84-74DA-4B7A-BE14-0159FF43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F8487-E355-4E25-8549-BF9CCC858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