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15982"/>
        <c:axId val="99338591"/>
      </c:barChart>
      <c:catAx>
        <c:axId val="17615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38591"/>
        <c:crosses val="autoZero"/>
        <c:auto val="1"/>
        <c:lblAlgn val="ctr"/>
        <c:lblOffset val="100"/>
        <c:noMultiLvlLbl val="0"/>
      </c:catAx>
      <c:valAx>
        <c:axId val="99338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15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603-51E2-46D5-A914-F3CA85CF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A86-648D-4ACD-A67F-DF48DEEC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74A-D907-49CF-AF1F-B65F979C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07A-0630-4EA1-9F1F-E691811A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D8B-1852-43E9-8D8D-0A5BF2F5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910-4E3D-44A3-BD0E-4F4BD073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775-A605-46CC-941B-A867ED3D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457-889C-4008-901E-7EA9840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AE7-4A93-43DE-9368-5A57A355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505-DA6B-476C-81F2-A8794DB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87C-53FD-4A7F-89DE-E4460BF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C28-8A1D-47EA-B72F-78322133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6902B-7605-4059-B4B6-A65D083EBE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