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841342"/>
        <c:axId val="25138978"/>
      </c:barChart>
      <c:catAx>
        <c:axId val="838413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138978"/>
        <c:crosses val="autoZero"/>
        <c:auto val="1"/>
        <c:lblAlgn val="ctr"/>
        <c:lblOffset val="100"/>
        <c:noMultiLvlLbl val="0"/>
      </c:catAx>
      <c:valAx>
        <c:axId val="251389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8413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B4D9-DC2A-4DB8-A26E-44851E509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92CE-DF7E-4DA3-9B14-022C51D05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2E76-4DD3-4C5D-A75A-880AB1E3A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5C28-1A5E-4784-A184-52DC87A09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FE8F-07F7-43CF-90C8-D961899E5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E74E-5F04-4B61-A866-1826CB8E6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B0E0-F53B-4CF9-87C0-F05F82AC9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518C-23E2-4577-B833-105BBF84D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9812-7A01-4794-89CD-1431421E4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B981-A6EB-4E34-AAE9-B3EA8F3FB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B2C6-2C11-43A0-9F91-1757E7FAD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A196-8095-4D72-9588-FCF743268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AF6ACD-1088-4453-BD11-77937C1F36C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